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99B0-311B-46A6-ACCC-2C0AFAE1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426-B78D-416A-950B-8357A8FC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5F692-6A33-40EF-8137-66133E8B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77566-43C3-4572-8429-50C27032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FF748-E972-408F-98AD-2BEEAF13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5A2BC-69F6-4BBD-98BC-03A431E2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71573-2FDF-4C95-906B-4E2D803C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91EA2-D068-40ED-B6E1-A46C5B41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29603-E127-4ADD-88F4-78296807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490E7-B6BD-4350-B672-F0F8CEDC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1EE40-9CF3-4307-8685-5DE75AD6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1142AB-E88D-4EBF-A61E-E1952EA7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629C-555A-4FF0-A4EE-6649F943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B9DE13-A91C-4C85-AEBF-16356144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D9C91F-080A-4CA4-B455-D1790424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6AA59E-AD31-45C4-889E-563201DC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3B7A65-6AD9-4029-8A76-79006A40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39D2AF-4375-4A04-A419-5EAB6DF3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6F5C89-9337-47DD-9543-F4F22F9E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7EA8C2-561D-4D4B-A214-7FA82738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73752E-C307-4169-8A0B-B521682C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D30CAF-D183-4D24-9A40-793896CD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65E4F7-72C1-4B0D-B15B-35BE6EA0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68A6-F39E-4C9C-A3EC-CEABB9AD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36E5FD-1181-4656-BB44-F9387017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5635-CCD2-4999-B1C6-13E9183E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DA3A-71C7-45D0-A259-42D46AD2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7D07-063B-48CF-9F09-348B3314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D8E4-2DCB-40A2-8AB1-80CDB125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2116-7A53-420C-ADC4-F23E0E97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08DA-F66F-4F67-ABCA-ADD6B1F4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2723-E8CC-4D60-9F85-183CC989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CB68-7F98-414B-A55B-DBCBFE9E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4ADD-8EA1-44D9-9341-F701A852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389F-A066-4077-9DA7-6CB5D091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913E-677F-45ED-8946-EBC68224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4BC9-C6D3-4B09-A570-40DD7033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684B-5A92-4E25-925E-FC7355B6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73B5C-4E8B-4F34-9316-C73028EE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CD46C-0B5E-434D-9253-C894FEF3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583D7-C3DB-4A05-A526-EE41F017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C244C-FD76-4D28-BB7E-45FE1B85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1D450-85A2-43E7-B07E-4C40FDBF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C503-D6FD-465B-8D8A-39348F13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637D2-6DF9-48C7-A0B9-FDF263E9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209F6-F74F-4AFC-801F-A531C6C9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4B731-138A-4A3E-98D2-32274248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DCA2E-A7F5-48B4-BC36-6A4F9E2F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4271B-F581-446B-B2A0-5BE82D5A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D456A-8A1E-4EB2-B6D4-D3E40C87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8E5D1-12D8-426A-AAB3-26A50C03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A3588-3EE7-4D66-8E7B-85B8C5D5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C1624-48E7-4B2F-A00B-53C6952D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B9555-6422-4CEB-9E9E-F1DC7C60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A68E-136B-4BFD-8845-9BF8D411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71049-5B95-4A14-8F8E-91244782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E001E-3AE1-490D-AE94-E22F58A8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109EA-C36A-4732-8884-A547F42D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1607E-D259-4F95-9217-9467AC9D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713C0-312C-4C3D-B126-B15CC097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26674-D5BC-454E-8F0B-84655B81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2F07C-7133-4A30-AA57-2D23ECF8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23A3F-3C8A-473A-A193-AEE8D3D1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28CE5-80E9-445C-8BBC-73F3655B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4DD0A-C0F9-4678-A5A4-54574060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F79C-3F0D-4BF8-8877-485EB70B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71DE1-C0A9-405E-B103-76FE4D66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64C56-66DE-4331-A331-117B5D1F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29AAE-DCE4-4A7A-B466-D2BA624A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720FE-544C-45A6-9F2C-80D66335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4F454-8376-496A-8CA0-061E06A3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8B6DC-E644-48AF-B2AF-78A52BC4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1647B-A1C4-4B5B-8DC6-531F3BB1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200EA-3B99-429A-BD6B-F629D152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CF238-E1A6-4EE5-8CDA-2095BF5F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0DD34-AC80-4A6D-A171-7E0C3F63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04D-186F-499F-9214-079961B1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1171F-4E3A-4164-AF1B-E5661B88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EB2DC-79E3-4734-B312-C08542BE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0F508-610F-4E63-8FDE-06CB0C1C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98C07-D02E-4655-AD14-E50D7032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C79BB-41A9-45DC-BD00-B8E86280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9E2EC-A4BC-4F04-8C6F-CBF0E966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6D571-85F5-4E9B-A8B8-DEC6F05E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2C3CD-F52D-483C-A850-7D2E208B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274AD-EF5C-4BF3-9EB0-9CC942EC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78276-D99F-4CB6-92A7-48387703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ACE-90FA-494E-9E08-234A8D85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6EE46-163F-4F7E-812D-405BAFC3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918EB-D785-42CF-9356-24FFD798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B1E2E-2E74-4AA2-99B0-94E18F01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1755D-2C5B-4E27-829A-B8121B90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B2626-FB99-4D7A-AE97-DEE5C5A7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50F6E-3B7F-4B7F-B95E-ED37030B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278B6-A25B-44F4-9265-B355D204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3DE8B-EF1A-442F-B217-20A02159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C4231-FFB3-4276-B712-5ADD2875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67F52-02AD-4996-A648-D26AE8A5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079-EFA8-4695-A123-CF32331C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22C8A-81BA-4506-BC7A-D8BDE6B0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83927-AF52-45C8-996A-1A106561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5670C-3B01-4283-B9FB-F1B9C88D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DE6B5-D0EB-4DDF-B96A-4D8239EF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ECD4B-D2A4-4AAB-958E-FDD72E48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33A6D-9F76-4B9A-AB49-7FAF9429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227BC-3DA2-4ABA-B187-20A27EED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FE6FB-3A74-4DCF-AABF-62181606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2A79F-FECC-4CC2-96EA-70B64598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4DB33-72DE-4AD1-819A-0F638866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5D8-B4F9-43BB-BA96-D4A8D7BF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35081-BE36-44AF-826D-2CBEA4D7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22C01-B0A1-40B5-A493-05F38247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D2786-AA60-4ECC-8DCD-063A448F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1A687-60AD-458D-8602-11FEF35C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26E8B-6D05-4714-84BA-0342B2BD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B90F5-8B50-4848-900A-FFC21D00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F0CC1-41B7-43C8-A1AB-EA39EDF1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2142E-72F5-4FF5-9865-780F8100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81023-BF39-48B2-861B-D347ECD0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7F7B0-C628-4DC4-88A8-7D4E8BBF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ECDC-EA87-4D4B-A2D5-5442A56460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FC15-B719-4E4F-AEEE-EC11306EDF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15E0-4DA8-418D-93C9-A5DF5058AE4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4B23-2718-4269-9975-651115B3E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9C97-E19C-4F10-BDE6-E315CD384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65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9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94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D834-4C06-478B-B24E-462585DABBB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43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47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72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7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4A38-969F-4D51-9664-054A98CFEAE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2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778B-EF1B-4757-8DE1-6DA694C271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9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388C-4CC7-468D-A125-E47EE18637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8D2B-03BE-4637-8FC3-9DE3927C5C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fermi.jhuapl.edu/states/avhrr/MA_213.n14.96sep30_1810.gif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6553080" y="4567320"/>
            <a:ext cx="259092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72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ylan Hen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day, October 17,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.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609480" y="1066680"/>
            <a:ext cx="830592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7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Massachuset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609840" cy="47952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0" y="5334120"/>
            <a:ext cx="44956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achusetts song: Fifty States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ssachusett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25/2011, www.fiftystate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apital: Bos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opulation: 6,349097 ( as of 20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ntered to Union: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Univer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 state, Feb.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Univer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 178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Motto: By the sword we seek peace, but peace only under liber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Nickname: Bay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lower: May flo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Bird: Black Capped Chickad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ong: All Hail to Massachuset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Meaning: named after an Algonquin Indian. Word that means “a big hill place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Weather: Average temp. 51 degrees 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tate Dessert: Boston Cream P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rcRect l="0" t="4307" r="2704" b="0"/>
          <a:stretch/>
        </p:blipFill>
        <p:spPr>
          <a:xfrm>
            <a:off x="0" y="533520"/>
            <a:ext cx="4648320" cy="316548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230760" y="4572000"/>
            <a:ext cx="462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rmi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ssachuset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18th, 2011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ermi.jhuapl.edu/states/ma_0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th pictu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3430440"/>
            <a:ext cx="4572000" cy="342756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4724280" y="1676520"/>
            <a:ext cx="47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sachusetts’ M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7" name="" descr="Massachusetts: Map and State Flag"/>
          <p:cNvPicPr/>
          <p:nvPr/>
        </p:nvPicPr>
        <p:blipFill>
          <a:blip r:embed="rId1"/>
          <a:srcRect l="0" t="0" r="0" b="48486"/>
          <a:stretch/>
        </p:blipFill>
        <p:spPr>
          <a:xfrm>
            <a:off x="1219320" y="228600"/>
            <a:ext cx="7076880" cy="438480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1981080" y="5029200"/>
            <a:ext cx="5562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’s Guide,, Quick Facts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ssachuset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ctober 18th, 2011, http://bensguide.gpo.gov/3-5/state/massachusett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762120" y="685800"/>
            <a:ext cx="8001000" cy="533412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371600" y="228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F. Kennedy was born he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62164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cards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ssachuset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10/25/2011, http://www.postcardsfrom.com/t1/971104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All images Copyright © 1997 - 2000 WriteLine. All Rights Reserved."/>
          <p:cNvPicPr/>
          <p:nvPr/>
        </p:nvPicPr>
        <p:blipFill>
          <a:blip r:embed="rId2"/>
          <a:stretch/>
        </p:blipFill>
        <p:spPr>
          <a:xfrm>
            <a:off x="0" y="0"/>
            <a:ext cx="4952880" cy="351468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All images Copyright © 1997 - 2000 WriteLine. All Rights Reserved."/>
          <p:cNvPicPr/>
          <p:nvPr/>
        </p:nvPicPr>
        <p:blipFill>
          <a:blip r:embed="rId3"/>
          <a:stretch/>
        </p:blipFill>
        <p:spPr>
          <a:xfrm>
            <a:off x="4114800" y="3554280"/>
            <a:ext cx="4876920" cy="330372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5181480" y="2286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picture of Cape Cod, which is on the shore of Massachuset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638680" y="29718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picture of Boston, it’s Massachusetts state capi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28600" y="44956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cards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ssachuset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10/25/2011, http://www.postcardsfrom.com/t1/971104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1Z</dcterms:created>
  <dc:creator>install</dc:creator>
  <dc:description/>
  <dc:language>en-US</dc:language>
  <cp:lastModifiedBy>install</cp:lastModifiedBy>
  <dcterms:modified xsi:type="dcterms:W3CDTF">2011-10-27T13:38:45Z</dcterms:modified>
  <cp:revision>15</cp:revision>
  <dc:subject/>
  <dc:title>Slide 1</dc:title>
</cp:coreProperties>
</file>